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3E3-4248-4AEC-8DD8-B046E4E6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E16-35C5-4FCF-B7AC-5475A266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939-F72F-4CE8-AA3E-3DBDEC40A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7CF-B3E1-420F-BAE1-CCDBF5ED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EE44-36E3-4EB7-B5D6-7E7DD506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E12E-734B-4967-8985-3F69F695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06C-F50E-48E7-8D09-8D186F94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E87-A9A3-45FC-8EC7-F0A414A5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1816-725A-4015-A2AB-D34FA9AC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C39-BEA5-475F-9DC2-D19B1E09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997-0A03-4A4C-9871-6E7F0AB6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162F-4C0A-4FC8-B2F7-2C429387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693C-39B4-4F3F-B941-1B5D3D14D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ff"/>
                </a:solidFill>
                <a:latin typeface="Arial Unicode MS"/>
              </a:rPr>
              <a:t>Length Convers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4005000"/>
            <a:ext cx="74167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ff"/>
                </a:solidFill>
                <a:latin typeface="HfW cursive"/>
              </a:rPr>
              <a:t>mm, cm, m, k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80"/>
            </a:gs>
            <a:gs pos="50000">
              <a:srgbClr val="ffffff"/>
            </a:gs>
            <a:gs pos="100000">
              <a:srgbClr val="8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1700280"/>
            <a:ext cx="4321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75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4653000"/>
            <a:ext cx="403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¾ k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8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0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1700280"/>
            <a:ext cx="4321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c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ffffff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11280" y="1700280"/>
            <a:ext cx="4321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0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c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50000">
              <a:srgbClr val="ffff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1773360"/>
            <a:ext cx="43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1700280"/>
            <a:ext cx="3671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92360" y="1773360"/>
            <a:ext cx="43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½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564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92360" y="1700280"/>
            <a:ext cx="43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75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¾ 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ffffff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35280" y="1700280"/>
            <a:ext cx="4321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9280" y="465300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1k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24000" y="1700280"/>
            <a:ext cx="2735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4653000"/>
            <a:ext cx="4176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½ k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70028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ff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4000" y="189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There are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11280" y="1700280"/>
            <a:ext cx="4321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250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3284640"/>
            <a:ext cx="151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59280" y="4653000"/>
            <a:ext cx="4033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¼ k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1628640"/>
            <a:ext cx="3672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7T13:20:05Z</dcterms:created>
  <dc:creator>Sudell Primary School</dc:creator>
  <dc:description/>
  <dc:language>en-US</dc:language>
  <cp:lastModifiedBy>Pitchford</cp:lastModifiedBy>
  <dcterms:modified xsi:type="dcterms:W3CDTF">2006-09-25T12:40:33Z</dcterms:modified>
  <cp:revision>2</cp:revision>
  <dc:subject/>
  <dc:title>Slide 1</dc:title>
</cp:coreProperties>
</file>